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321-1410-4D89-B783-3430597F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F48-1821-4ED9-AE2A-A5767DA6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EB8-F5C0-4FBA-9690-398EF74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647-AE2E-476B-B513-6E082D89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17B3-4C72-4EC4-8710-0C270836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5355-4225-48C7-AA91-8E2739F0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FA44-B9C2-4094-8980-5ED7C1D4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CE51-04E4-49EE-868A-7ACD1041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5D7A-BCA1-41C8-834A-046EEC55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C06D-5866-40D8-BAE6-5280969D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9EAB-9CA6-42BD-B82E-657ED68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2A3-7FE6-4D2F-A8F0-817852C6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9A8-CE3A-457D-A66E-B86B6EA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0EE-DBB6-436A-B027-1342070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D32B-D25F-4ED7-BBF5-9804B13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BE78-1B81-48EE-84D8-70E45A6C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A883-EC89-46A8-BCA6-406ACBCF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EA8-3085-4E9E-A662-89341129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2CE-8D34-4D8D-A5AE-CD81DAC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683-045E-457E-9E3E-9F75FC71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399-5B77-4D24-AE36-E938D3D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93E-E230-4D21-AC9A-6E8F269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5D1-6ECF-4621-8A6B-26FAC58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20C-F4A3-467A-8071-3093B80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B69-14FF-4E65-A7C2-A50F98785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624-5C10-49CE-AA8A-539A0AED68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tare angr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tare  Antonym: l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lar-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167440" y="1768320"/>
            <a:ext cx="2654280" cy="39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y te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some body that tell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Story- t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591080" y="1600200"/>
            <a:ext cx="24778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2:13Z</dcterms:modified>
  <cp:revision>3</cp:revision>
  <dc:subject/>
  <dc:title>PowerPoint Presentation</dc:title>
</cp:coreProperties>
</file>